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63E6-526D-4D21-9C34-F993E53F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D8F-B5FB-4D90-8428-B792F57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B91-CCC4-4671-B3B4-D3ED6524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A34-89F9-4DB5-A14E-4A33A0A2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3ED3-148C-40F4-AE54-9FC32780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27AD3-FCB8-4463-A291-34002553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8B886-AE22-4EF3-8576-1070F942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C6E9E-A9BE-4CE3-BB9F-270FF9C5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79383-CD3D-4913-9E9F-1D07FF3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0E58-F653-47C3-85F6-EB79B19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A8C08-94B9-4F0B-AAAC-D203EED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44A-4F65-4CB6-96B8-44C15557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82A3-0685-40B9-8EF8-EE8A98E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3ACB3-070E-4D68-AB67-DF00806E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0B6BE-0336-4D29-918E-F99B577E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E9939-651F-47F9-A372-1BA3BE6C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8019D-F53F-4F0F-831C-F2AEACC8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87F-8F8C-4EF6-9CA7-8DA447B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4D3-4D0E-43E5-ABBF-F7FB431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AF4-59CC-4A95-A425-03AAC91D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AE7-85FF-4299-95E7-E1140ABF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7A6-B923-40FF-A298-A2740A3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51E-F9F8-4FD4-BCF5-B685B3B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AA3-4ACC-4EBA-8AD3-897B0F6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1FE6-74A7-4832-A83A-1A6E52766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93FF-4902-4D29-9077-87320A39C8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1356840"/>
            <a:ext cx="8643960" cy="4000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00000"/>
                </a:solidFill>
                <a:latin typeface="Arial Black"/>
              </a:rPr>
              <a:t>Водные ресурсы и человек</a:t>
            </a:r>
            <a:br>
              <a:rPr sz="6600"/>
            </a:br>
            <a:r>
              <a:rPr b="0" i="1" lang="ru-RU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2c"/>
                </a:solidFill>
                <a:latin typeface="Tahoma"/>
              </a:rPr>
              <a:t>Вода – бесценная жидкость, дающая жизнь всему живом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ahoma"/>
              </a:rPr>
              <a:t>Водные ресурсы – это та часть поверхностных и подземных вод, которая может быть использована для снабжения водой населения и для  различных видов человеческой деятельно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-main-pic" descr="Картинка 35 из 535"/>
          <p:cNvPicPr/>
          <p:nvPr/>
        </p:nvPicPr>
        <p:blipFill>
          <a:blip r:embed="rId1"/>
          <a:stretch/>
        </p:blipFill>
        <p:spPr>
          <a:xfrm>
            <a:off x="1403280" y="2058840"/>
            <a:ext cx="62643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0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1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2c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Tahoma"/>
              </a:rPr>
              <a:t>ВОДНЫЕ РЕСУР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500800" y="428760"/>
            <a:ext cx="335736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Водные пу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5000760"/>
            <a:ext cx="371484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Энергия рек, приливов (ГЭС, ПЭ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072040" y="5072040"/>
            <a:ext cx="364320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ромышленность и сельское хозяй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9" name="Прямая со стрелкой 15"/>
          <p:cNvCxnSpPr/>
          <p:nvPr/>
        </p:nvCxnSpPr>
        <p:spPr>
          <a:xfrm flipH="1" flipV="1">
            <a:off x="1785600" y="1642320"/>
            <a:ext cx="1929600" cy="1143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0" name="Прямая со стрелкой 17"/>
          <p:cNvCxnSpPr/>
          <p:nvPr/>
        </p:nvCxnSpPr>
        <p:spPr>
          <a:xfrm flipV="1">
            <a:off x="5143320" y="1571040"/>
            <a:ext cx="192924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H="1">
            <a:off x="1785600" y="3570840"/>
            <a:ext cx="192960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2" name="Прямая со стрелкой 21"/>
          <p:cNvCxnSpPr/>
          <p:nvPr/>
        </p:nvCxnSpPr>
        <p:spPr>
          <a:xfrm>
            <a:off x="5072040" y="3642840"/>
            <a:ext cx="221544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3" name="Прямоугольник 3"/>
          <p:cNvSpPr/>
          <p:nvPr/>
        </p:nvSpPr>
        <p:spPr>
          <a:xfrm>
            <a:off x="214200" y="500040"/>
            <a:ext cx="3357720" cy="1143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Питье и бытовые продук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833400"/>
          <a:ext cx="9144000" cy="27464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16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  <p:sp>
        <p:nvSpPr>
          <p:cNvPr id="106" name="Прямоугольник 4"/>
          <p:cNvSpPr/>
          <p:nvPr/>
        </p:nvSpPr>
        <p:spPr>
          <a:xfrm>
            <a:off x="0" y="38577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2c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2c"/>
                </a:solidFill>
                <a:latin typeface="Tahoma"/>
              </a:rPr>
              <a:t>Рыбное хозяйство, промышленность, сельское хозяйство, коммунальное хозяйство (вода в квартире), гидроэнергетика (ГЭС), полив улиц, купание в реке, рыбалка на берегу с удочкой, речной транспорт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2c"/>
                </a:solidFill>
                <a:latin typeface="Tahoma"/>
              </a:rPr>
              <a:t>Использование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000160"/>
          <a:ext cx="9144000" cy="3657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льзова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водопотребление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н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Гидроэнергетика (ГЭС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ечной транспорт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упание в реке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Рыбалка на берегу с удочкой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ромышленност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ельское хозяйство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457200" indent="-457200">
                        <a:buClr>
                          <a:srgbClr val="00002c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Коммунальное хозяйство (вода в квартире), полив улиц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000080"/>
          <a:ext cx="9144000" cy="4108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7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ahoma"/>
              </a:rPr>
              <a:t>Воды - челове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00080"/>
          <a:ext cx="9144000" cy="5772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ды для челове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(водные ресурсы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овек для во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лагоприят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благоприят-ные для человека свойства водных ресурсов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ложитель-ное влияние, охрана в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рицательное влияние, источники загрязнения и истощен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Питье, водные пути, энергия рек, отдых, использование для промышленных и с/х нуж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Неравномерное размещение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ихийные бедствия: наводнения, паводки, цунами, ветровые волн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Строительство очистных сооружений, оборотная система водоснабжения, экономия воды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2c"/>
                          </a:solidFill>
                          <a:latin typeface="Tahoma"/>
                        </a:rPr>
                        <a:t>Забор воды из рек и озер для нужд промышленности и с/х. Сплав древесины, загрязнение вод, создание водохранилищ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4:25:57Z</dcterms:created>
  <dc:creator>PC176</dc:creator>
  <dc:description/>
  <dc:language>en-US</dc:language>
  <cp:lastModifiedBy>Карпова МЮ</cp:lastModifiedBy>
  <dcterms:modified xsi:type="dcterms:W3CDTF">2011-12-20T06:46:53Z</dcterms:modified>
  <cp:revision>18</cp:revision>
  <dc:subject/>
  <dc:title>Поверхностные   воды РБ</dc:title>
</cp:coreProperties>
</file>